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E2C3-7305-4966-B7D9-E324C99EB8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5440" y="6140520"/>
            <a:ext cx="723276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Formation spécifique RFP – Concept global</a:t>
            </a:r>
            <a:br>
              <a:rPr sz="900"/>
            </a:br>
            <a:r>
              <a:rPr b="0" lang="fr-CH" sz="900" spc="-1" strike="noStrike">
                <a:solidFill>
                  <a:srgbClr val="000000"/>
                </a:solidFill>
                <a:latin typeface="Arial"/>
              </a:rPr>
              <a:t>Claude Gisi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’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’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census@bfs.admin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15800" y="2455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Formation spécifique RFP</a:t>
            </a:r>
            <a:br>
              <a:rPr sz="4400"/>
            </a:b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Concept glob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90320" y="5649480"/>
            <a:ext cx="742932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éanc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'informatio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: préparation du RFP2010 et d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'enquêt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sur la formation de base et la formation continue 2011 - 8 octobre 2009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laude Gisiger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1. De quoi s’agit-il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2240" y="2422440"/>
            <a:ext cx="74628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L’exploitation du recensement (RFP) à partir de 2010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sera relativement complexe (des relevés par sondage au lieu d’un relevé exhaustif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comporte des éléments nouveaux (avant tout le relevé structurel, avec des densifications diverse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intègre des méthodes entièrement nouvelles (</a:t>
            </a:r>
            <a:r>
              <a:rPr b="0" i="1" lang="fr-CH" sz="2100" spc="-1" strike="noStrike">
                <a:solidFill>
                  <a:srgbClr val="000000"/>
                </a:solidFill>
                <a:latin typeface="Arial"/>
              </a:rPr>
              <a:t>small area estimation, pooling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1555560"/>
            <a:ext cx="74628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2. Offre de formation spécifiq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24080" y="2349360"/>
            <a:ext cx="74628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our faciliter et accompagner le passage au nouveau système de RFP, l’OFS propose aux services statistiques des cantons et des villes d’organiser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une formation spéciale 2010-2011 (focalisée méthodologi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t 2 workshops en 2011 et 2013 (focalisés résultat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557000"/>
            <a:ext cx="65167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3. Principes rete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2278080"/>
            <a:ext cx="74260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La formation spécifique RFP va compor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es parties de l’offre de formation statistique spécialisée de l’O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t un cours spécial sur la </a:t>
            </a:r>
            <a:r>
              <a:rPr b="0" i="1" lang="fr-CH" sz="2100" spc="-1" strike="noStrike">
                <a:solidFill>
                  <a:srgbClr val="000000"/>
                </a:solidFill>
                <a:latin typeface="Arial"/>
              </a:rPr>
              <a:t>small area estimation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Ce programme de base sera complété par 2 workshop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sur les résultats du 1</a:t>
            </a:r>
            <a:r>
              <a:rPr b="0" lang="fr-CH" sz="21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relevé structurel (hiver 201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lors de la diffusion des premiers résultats mis en « pool » (vraisemblablement entre fin 2013 et mi-2014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85920" y="333360"/>
            <a:ext cx="74628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4. Vue d’ensemble de la form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148428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5. Suite des travau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15800" y="2278080"/>
            <a:ext cx="74991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 u="sng">
                <a:solidFill>
                  <a:srgbClr val="000000"/>
                </a:solidFill>
                <a:uFillTx/>
                <a:latin typeface="Arial"/>
              </a:rPr>
              <a:t>Après le 8.10.09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: les services statistiques des cantons et des villes sont invités à annoncer leur intérêt pour la formation spécifique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  <a:ea typeface="Arial"/>
              </a:rPr>
              <a:t>(par e-mail à </a:t>
            </a:r>
            <a:r>
              <a:rPr b="0" lang="fr-CH" sz="21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ensus@bfs.admin.ch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  <a:ea typeface="Arial"/>
              </a:rPr>
              <a:t>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ff0000"/>
                </a:solidFill>
                <a:latin typeface="Arial"/>
              </a:rPr>
              <a:t>Délai d’inscription: 30 octobre 200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Fin novembre 2009: proposition définitive à la direction OFS et communication de la décision aux services statistiques des cantons et des vil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ébut 2010: réalis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1:37:48Z</dcterms:created>
  <dc:creator>Claude Gisiger</dc:creator>
  <dc:description/>
  <dc:language>en-US</dc:language>
  <cp:lastModifiedBy>Sonia Donzé</cp:lastModifiedBy>
  <cp:lastPrinted>2003-11-14T16:51:38Z</cp:lastPrinted>
  <dcterms:modified xsi:type="dcterms:W3CDTF">2009-10-06T07:27:14Z</dcterms:modified>
  <cp:revision>13</cp:revision>
  <dc:subject/>
  <dc:title>Sonderausbildung SHAPE Gesamtkonzept</dc:title>
</cp:coreProperties>
</file>